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908-B362-4A09-A853-B155DCE0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B5A-7D3D-4702-BCD7-C5BED3AC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163-A555-4380-B893-1C0FA915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78B-6A59-444A-BEAD-95C41F8C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310-AD78-4FF3-B5F1-92B20E01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232-F7EB-46EA-AE90-A5D1FB6F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D63-1751-4802-99E6-3A21CC1E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EE4-3AB7-40A3-A638-FEA44713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01A-808F-4056-8FEA-8BE718F8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F73-B509-453E-800E-A1689FA4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BEC-B134-4CC6-A351-E8B70951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708-8BF6-4F4D-9752-1970B5FB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4968-D59D-48C7-84B3-375D45CCF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391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are in my classroom and in a “breakout” ro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t’s a separate “study” a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check out some of the feature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lick on the “next page” button on the bottom left of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creen – it’s the “right”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990720" y="4876920"/>
            <a:ext cx="7617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eakout room is a little differ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 depends on how each onMATH teacher set up their “classroom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….each breakout ro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 whiteboar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ilar to a smartbo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 chat po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 you to communicate with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nMATH teach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n attendee li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 that you can see who else is in this “room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of us may have added some web links, files to share, etc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lick to the next page to see a sample “breakout room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what a breakout room might look like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33520" y="1095480"/>
            <a:ext cx="7391160" cy="4543200"/>
            <a:chOff x="533520" y="1095480"/>
            <a:chExt cx="7391160" cy="45432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533520" y="1095480"/>
              <a:ext cx="7391160" cy="45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533520" y="1095480"/>
              <a:ext cx="7391160" cy="454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5421240"/>
            <a:ext cx="7391160" cy="29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160" y="6019920"/>
            <a:ext cx="2105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lick to the next page to continu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676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2209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 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4724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8288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e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5720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ay, let’s hit a few butt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 in the right corner, you will find the i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whiteboard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icon and the toolbar will app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pencil tool to write something all over th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colour; change the thickness of the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when you click on the eras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few numbers on the page then click the backwards arrow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ould be a better tool to use when you make an error and you want to erase just one or two things (instead of erasing EVERYTH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409680" cy="37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440" y="5715000"/>
            <a:ext cx="2105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lick to the next page to continu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 the some of the other tools…such as the marker tool, line tool, shapes, text, stamper….can you change the size or col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f you have a question?  Find the icon to “raise your hand” in this virtual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440" y="5715000"/>
            <a:ext cx="2105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lick to the next page to continu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are familiar with the tools, you are ready to start using the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ooking forward to seeing you again at  onM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43:43Z</dcterms:created>
  <dc:creator>officeuser</dc:creator>
  <dc:description/>
  <dc:language>en-US</dc:language>
  <cp:lastModifiedBy>officeuser</cp:lastModifiedBy>
  <dcterms:modified xsi:type="dcterms:W3CDTF">2010-02-04T15:25:01Z</dcterms:modified>
  <cp:revision>7</cp:revision>
  <dc:subject/>
  <dc:title>Intro</dc:title>
</cp:coreProperties>
</file>